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75F-69C9-4B54-A234-40F44938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051-8E08-4ED1-80F2-A350C2FC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74F-82F0-42F5-B915-CE49800B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143-EDCE-4F61-980F-3A0C526D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6B8-C2FA-4177-B943-96EB9A5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CF6-FB23-4987-8886-446FB3F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930-3A27-4761-B8C7-DE6F8EC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865-E7C1-454D-8A08-448F285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60A-33B0-444C-B7C7-334C4716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CAE-8836-46A5-BF4E-62C1D33E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094-7F87-4BE4-A90F-F154820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B88-8293-43B4-9C17-5D30770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F73-9E00-4420-B224-551C168F3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Drawing a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 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a 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__3___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_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4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 a 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5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C.4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388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t Apple Key + H (on M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just make? Go back to the first slide and fill in the five bla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you given? What did you draw on slide 2? Be specific about locations of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914400" y="1847880"/>
            <a:ext cx="7434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BD and C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points may be labeled differently and that is okay. You still need to find the measures of these two seg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lengths of these seg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6832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Drawing a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 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a 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__8___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_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9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 a 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10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C.4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do not have to make the letter this large, you just need to make the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4876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447920" y="1336680"/>
            <a:ext cx="64008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00200" y="1074600"/>
            <a:ext cx="640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23840" y="1238400"/>
            <a:ext cx="68248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 -&gt; Perpendicula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676520" y="1163520"/>
            <a:ext cx="5562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GSP and 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900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95280" y="1095480"/>
            <a:ext cx="6172200" cy="5402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t Apple Key + H (on M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just make? Go back to the first slide and fill in the five bla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you given? What did you draw on slide 15? Be specific about locations of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6080" y="1252440"/>
            <a:ext cx="87930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09480" y="1339920"/>
            <a:ext cx="79250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 -&gt; Mid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1308240"/>
            <a:ext cx="74678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130400"/>
            <a:ext cx="792468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90720" y="1332000"/>
            <a:ext cx="7162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ld down the line segment button until you see a menu. Choose the l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081160" cy="494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562720" y="1370160"/>
            <a:ext cx="1828800" cy="489096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7"/>
          <p:cNvCxnSpPr/>
          <p:nvPr/>
        </p:nvCxnSpPr>
        <p:spPr>
          <a:xfrm flipV="1">
            <a:off x="2133720" y="3885840"/>
            <a:ext cx="3048480" cy="92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85880" y="990720"/>
            <a:ext cx="7367400" cy="558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11:31Z</dcterms:created>
  <dc:creator>.</dc:creator>
  <dc:description/>
  <dc:language>en-US</dc:language>
  <cp:lastModifiedBy>.</cp:lastModifiedBy>
  <dcterms:modified xsi:type="dcterms:W3CDTF">2013-05-07T19:32:02Z</dcterms:modified>
  <cp:revision>14</cp:revision>
  <dc:subject/>
  <dc:title>Drawing a Tangent Line</dc:title>
</cp:coreProperties>
</file>